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9.pct" ContentType="image/x-pict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9C0-1559-46FD-88D2-37976F44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2A6-1558-422B-BE66-426699CF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EA8-4604-4D01-8B2B-BE27295A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89E-0B71-47EF-BE15-B5DD5567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351C-7A28-43A7-BD56-8794CA6C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F889-375D-43EE-9A72-AC266271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F07E-E17A-4ED8-B79E-A7F0B741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D407-DAC0-448E-B184-6BF78AD1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D80A-3EAC-4E5B-94A1-EFB5083F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47F5-4548-4F98-888F-47BA366E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A1A1-D47B-47DF-A232-824E8CD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FB4-2A12-4DD7-A555-8C5BD896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F4FE-2E8E-417D-B653-D0F2B9F5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E067-68EF-4E5F-B4E5-D5FFE82C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7D0C-9A20-4071-829C-1AFE91FE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65BE-EBA6-4047-A1F5-A21B6B1F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B69A-4927-49A0-92CA-53E97B5D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E03-7AE5-4B28-9C90-79F02878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690-1E62-46EE-8266-465FEBDF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069-51F0-4484-A781-671D2117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56D-2FD8-4CE7-B861-9A0FCF5C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C5D-9DD4-4471-98A8-19D2B4A9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7A6-150A-4CEC-BB0E-2153F48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574-F3EA-4EF9-9C87-5DC078AD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108D-0640-4D16-AAB7-632D10574B5B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352E-B0C1-4E32-AD07-14074C0FB3C9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5d2204"/>
                </a:solidFill>
                <a:latin typeface="Arial"/>
              </a:rPr>
              <a:t>Aim:  How did Vladimir Lenin and Joseph Stalin change life in the USSR? </a:t>
            </a:r>
            <a:br>
              <a:rPr sz="3500"/>
            </a:br>
            <a:r>
              <a:rPr b="1" lang="en-US" sz="3500" spc="-1" strike="noStrike">
                <a:solidFill>
                  <a:srgbClr val="5d2204"/>
                </a:solidFill>
                <a:latin typeface="Arial"/>
              </a:rPr>
              <a:t>L26</a:t>
            </a:r>
            <a:endParaRPr b="1" lang="en-US" sz="35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Do Now: Create a list or word web about what you know already about Vladimir Lenin and Joseph Stalin.  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12164"/>
                </a:solidFill>
                <a:latin typeface="Arial"/>
              </a:rPr>
              <a:t>6) Propaganda- an advertisement that persuades people to believe biased information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2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89200" y="1981080"/>
            <a:ext cx="556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2730600" cy="3886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4419360" cy="3573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76440" y="4114800"/>
            <a:ext cx="2027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storation of the govern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NEP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Communism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373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Vladimir Lenin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2164"/>
                </a:solidFill>
                <a:latin typeface="Arial"/>
              </a:rPr>
              <a:t>S</a:t>
            </a:r>
            <a:r>
              <a:rPr b="0" lang="en-US" sz="2700" spc="-1" strike="noStrike">
                <a:solidFill>
                  <a:srgbClr val="212164"/>
                </a:solidFill>
                <a:latin typeface="Arial"/>
              </a:rPr>
              <a:t>logan</a:t>
            </a:r>
            <a:endParaRPr b="0" lang="en-US" sz="27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12164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212164"/>
                </a:solidFill>
                <a:latin typeface="Arial"/>
              </a:rPr>
              <a:t>Peace, Land and Bread” </a:t>
            </a:r>
            <a:endParaRPr b="0" lang="en-US" sz="27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12164"/>
                </a:solidFill>
                <a:latin typeface="Arial"/>
              </a:rPr>
              <a:t>Slogan appealed to the biggest group----The peasants/ workers</a:t>
            </a:r>
            <a:endParaRPr b="0" lang="en-US" sz="27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2133360" cy="1563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91120" y="2133720"/>
            <a:ext cx="457200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9542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enin used two new methods to reorganize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719f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NEP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9954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Small scale version of capitalism (think of it as a baby step to full Communism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719f6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Communis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9954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Based on Karl Marx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995421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Economic equality for al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604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00600" y="53316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Lenin did not live to see how much Communism restored Russia (USSR).  He died in 1924 as a result of multiple stroke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00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48320" y="533520"/>
            <a:ext cx="3657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ruggle for powe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fter Lenin’s death there was a brief struggle for power between Joseph Stalin and Leon Trotsk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rotsky was the former leader of the Red Arm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talin was a powerful member of the Communist party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12164"/>
                </a:solidFill>
                <a:latin typeface="Arial"/>
              </a:rPr>
              <a:t>Stalin is victorious and creates a Totalitarian state in the USSR</a:t>
            </a:r>
            <a:endParaRPr b="1" lang="en-US" sz="39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otalitarian= gov’t controls all aspects of public and private life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3067200" cy="3124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263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hanges under Stalin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mand Economy—government control of all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conomic decisions </a:t>
            </a:r>
            <a:endParaRPr b="0" lang="en-US" sz="3300" spc="-1" strike="noStrike">
              <a:solidFill>
                <a:srgbClr val="21216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ve Year Plans—set goals to increase industrial production </a:t>
            </a:r>
            <a:endParaRPr b="0" lang="en-US" sz="3300" spc="-1" strike="noStrike">
              <a:solidFill>
                <a:srgbClr val="21216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llective Farms—took over private farms and created gov.  run farms.  Peasants resisted but were forced by Stalin and his police.</a:t>
            </a:r>
            <a:endParaRPr b="0" lang="en-US" sz="33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ethods of Control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21216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olice Terro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itored phone, read mail, and planted informers.  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21216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reat Pur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34 was a campaign of terror 8-13 million were executed for “crimes against the Soviet state.”</a:t>
            </a:r>
            <a:endParaRPr b="0" lang="en-US" sz="4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040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ethods of Control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Indoctrination---instruction in the governments beliefs used to mold peoples minds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Censorship—music, movies, radio, newspapers were all controlled by the gov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gious persecution---wanted to replace religion with teachings of communism.  Destroyed churches and killed priest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5:44:59Z</dcterms:created>
  <dc:creator>NYCDOE</dc:creator>
  <dc:description/>
  <dc:language>en-US</dc:language>
  <cp:lastModifiedBy>NYCDOE</cp:lastModifiedBy>
  <dcterms:modified xsi:type="dcterms:W3CDTF">2012-01-04T14:17:30Z</dcterms:modified>
  <cp:revision>9</cp:revision>
  <dc:subject/>
  <dc:title>Aim:  What was life like in a totalitarian state?  L60</dc:title>
</cp:coreProperties>
</file>